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18B-5C49-4F7C-9780-17DCEB7B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B83-781C-4765-BB9E-D37CE8F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723-3B08-4AD7-AC0B-E94C6B73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AAB-EB69-4622-8031-A3FC8BC3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B682-7B6E-4A20-86BF-DD3B4841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3837-DED8-4E99-9CC9-9A2F79D2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1555-6643-4D49-8731-88AFA2A7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ABF-B6DA-46D0-ACA5-CA398B6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5FD-9830-442D-A809-3B22D11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FE0D-A52D-4A64-8331-12E4E93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88D-ED16-4D35-B22A-2F4E2BE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A19-817C-48F1-8512-EF55342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E3D-83ED-43FC-85DB-5EFC4442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E4A-7C1E-4CE2-892E-7176181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CF6-3A60-4605-83AC-A63916B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51D-C71D-45E0-A14E-F34494BC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E50-041C-48A1-B90C-07B7740C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CA0-A205-49C0-B71B-D8D1A84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026-0266-4E80-B052-B0A7C77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B56-8418-465C-8507-A49BC3C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7CF-0FAE-4F7B-BB65-10FCB3C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FB1-049B-4610-93F1-0BA20F3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AC1-CB92-4912-AD2B-D882061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C64-39D0-4A12-B150-15DE583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FDE6-3117-449F-A453-4ADDF11C2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2E1-D3F4-4C57-8453-D9BC6874A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Place Valu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ol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s, Tens &amp; Hundr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anded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88756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Beth McCulloch Vin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s. Jennifer Willi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eometr231 BT"/>
              </a:rPr>
              <a:t>Math 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9200" y="1886040"/>
          <a:ext cx="771372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886040"/>
                    <a:ext cx="77137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95440" y="1981080"/>
          <a:ext cx="217152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981080"/>
                    <a:ext cx="21715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s a single unit of any i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es place is the first digit to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have up to 9 items in the on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932200"/>
          <a:ext cx="379080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32200"/>
                    <a:ext cx="37908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 individual items can be grouped together as one 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ns place is the second number from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s 10 through 99 can be placed in this s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NDRE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6840" y="1981080"/>
          <a:ext cx="3167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981080"/>
                    <a:ext cx="3167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 groups of ten are equal to one hund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ndreds place is the third number from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have the numbers 100 through 999 in the hundreds s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g Num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s are read by their place val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called expand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the number 432 can be expressed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undreds, three tens, and two one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undred thirty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rite these numbers in expanded form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hundred, thirty one or two hundreds, three tens and on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hundred, eighty nine or seven hundreds, eight tens, and nine on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w you can feel secure in reading any number between 0 and 999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2520" y="2666880"/>
            <a:ext cx="34290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that each place can hold up to nine of that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, Practice, Pract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73360" y="2139840"/>
            <a:ext cx="1968480" cy="1892520"/>
          </a:xfrm>
          <a:custGeom>
            <a:avLst/>
            <a:gdLst>
              <a:gd name="textAreaLeft" fmla="*/ 72720 w 1968480"/>
              <a:gd name="textAreaRight" fmla="*/ 1895760 w 1968480"/>
              <a:gd name="textAreaTop" fmla="*/ 69840 h 1892520"/>
              <a:gd name="textAreaBottom" fmla="*/ 1511640 h 1892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8240" y="2590920"/>
            <a:ext cx="1540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lo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" y="4502160"/>
            <a:ext cx="3492360" cy="2347920"/>
          </a:xfrm>
          <a:prstGeom prst="plus">
            <a:avLst>
              <a:gd name="adj" fmla="val 24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9480" y="3130560"/>
            <a:ext cx="1511280" cy="13590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8:04Z</dcterms:created>
  <dc:creator>Gadsden Center</dc:creator>
  <dc:description/>
  <dc:language>en-US</dc:language>
  <cp:lastModifiedBy>Dr. Beth McCulloch Vinson</cp:lastModifiedBy>
  <cp:lastPrinted>1997-07-09T23:36:22Z</cp:lastPrinted>
  <dcterms:modified xsi:type="dcterms:W3CDTF">2000-07-11T04:48:30Z</dcterms:modified>
  <cp:revision>9</cp:revision>
  <dc:subject/>
  <dc:title>Sixth Grade Math Review of Place Value  </dc:title>
</cp:coreProperties>
</file>